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F0E-BDBF-4E42-9C7C-A8A0866B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D0C-7E1A-4E04-8321-D62D6E33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836-8884-40B3-AEEC-9777B139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07A-D6DB-481C-B8B4-E6B5B1D4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D0A4-4138-4209-B83F-6B73C6A2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178F-ECBF-43F6-B61C-D0280BE1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D7F3-5F9E-4B1A-B8CD-093EEE7C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415B-3E6E-4706-9724-EA6996EC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FF37-2773-4C54-980D-F87CA9B9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DDD0-BEB9-451E-BB13-6868A26D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B820-1236-4FB2-BC64-B8BB440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6ED-20F1-46F0-B50D-23B996DB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6114-DCDB-4F27-B27C-C0184DA3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9863-29AB-4ADA-88C6-FE67A811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0078-17C4-451A-B960-9D75D1F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D6DF-15AF-4446-BFBB-2554461A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E17F-0A5E-4B30-B44F-C666A88C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585-8F9B-4D59-A93F-3CF08A2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6F7-658A-43AB-B938-3E4BF2BC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6B7-3538-4CB1-A5CF-2721FA93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1FD-7D30-45A6-9467-2E13BBEE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24C-95A7-459A-AFD4-8022788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497-D98C-4B95-ADFB-D94BDE7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861-99CD-4E30-BF7F-6B979495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AC8C-0DA3-4CC1-BCE2-F3D398598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976-6AA4-446D-8CF7-FD7E506BF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.wikipedia.org/wiki/Reyes_Cat&#243;licos" TargetMode="External"/><Relationship Id="rId3" Type="http://schemas.openxmlformats.org/officeDocument/2006/relationships/hyperlink" Target="http://es.wikipedia.org/wiki/Carlos_I_de_Espa&#241;a" TargetMode="External"/><Relationship Id="rId4" Type="http://schemas.openxmlformats.org/officeDocument/2006/relationships/hyperlink" Target="http://es.wikipedia.org/wiki/Felipe_II_de_Espa&#241;a" TargetMode="External"/><Relationship Id="rId5" Type="http://schemas.openxmlformats.org/officeDocument/2006/relationships/hyperlink" Target="http://es.wikipedia.org/wiki/Imagen:CharlesVtit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upload.wikimedia.org/wikipedia/commons/2/26/King_PhilipII_of_Spain.jpg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.wikipedia.org/wiki/Carlos_I_de_Espa&#241;a" TargetMode="External"/><Relationship Id="rId3" Type="http://schemas.openxmlformats.org/officeDocument/2006/relationships/hyperlink" Target="http://es.wikipedia.org/wiki/Felipe_II_de_Espa&#241;a" TargetMode="External"/><Relationship Id="rId4" Type="http://schemas.openxmlformats.org/officeDocument/2006/relationships/hyperlink" Target="http://es.wikipedia.org/wiki/Imagen:CharlesVtit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upload.wikimedia.org/wikipedia/commons/2/26/King_PhilipII_of_Spain.jpg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.wikipedia.org/wiki/Literatura" TargetMode="External"/><Relationship Id="rId3" Type="http://schemas.openxmlformats.org/officeDocument/2006/relationships/hyperlink" Target="http://es.wikipedia.org/wiki/Artes_pl&#225;sticas" TargetMode="External"/><Relationship Id="rId4" Type="http://schemas.openxmlformats.org/officeDocument/2006/relationships/hyperlink" Target="http://es.wikipedia.org/wiki/M&#250;sica" TargetMode="External"/><Relationship Id="rId5" Type="http://schemas.openxmlformats.org/officeDocument/2006/relationships/hyperlink" Target="http://es.wikipedia.org/wiki/Universidad_de_Salamanca" TargetMode="External"/><Relationship Id="rId6" Type="http://schemas.openxmlformats.org/officeDocument/2006/relationships/hyperlink" Target="http://es.wikipedia.org/wiki/Universidad_Complutense" TargetMode="External"/><Relationship Id="rId7" Type="http://schemas.openxmlformats.org/officeDocument/2006/relationships/hyperlink" Target="http://es.wikipedia.org/wiki/Universidad_de_Sevilla" TargetMode="External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c/Garcilaso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Españ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5334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guel de Cervan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Imagen:LopedeVega.jpg"/>
          <p:cNvPicPr/>
          <p:nvPr/>
        </p:nvPicPr>
        <p:blipFill>
          <a:blip r:embed="rId2"/>
          <a:stretch/>
        </p:blipFill>
        <p:spPr>
          <a:xfrm>
            <a:off x="5791320" y="2286000"/>
            <a:ext cx="2355840" cy="335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Imagen:Cervates jauregui.jpg"/>
          <p:cNvPicPr/>
          <p:nvPr/>
        </p:nvPicPr>
        <p:blipFill>
          <a:blip r:embed="rId3"/>
          <a:stretch/>
        </p:blipFill>
        <p:spPr>
          <a:xfrm>
            <a:off x="1066680" y="1219320"/>
            <a:ext cx="2847960" cy="3219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2520" y="5334120"/>
            <a:ext cx="5181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pe de Ve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5334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guel de Cervan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Imagen:LopedeVega.jpg"/>
          <p:cNvPicPr/>
          <p:nvPr/>
        </p:nvPicPr>
        <p:blipFill>
          <a:blip r:embed="rId2"/>
          <a:stretch/>
        </p:blipFill>
        <p:spPr>
          <a:xfrm>
            <a:off x="6515280" y="3505320"/>
            <a:ext cx="171432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Imagen:Cervates jauregui.jpg"/>
          <p:cNvPicPr/>
          <p:nvPr/>
        </p:nvPicPr>
        <p:blipFill>
          <a:blip r:embed="rId3"/>
          <a:stretch/>
        </p:blipFill>
        <p:spPr>
          <a:xfrm>
            <a:off x="6324480" y="228600"/>
            <a:ext cx="208944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3429000"/>
            <a:ext cx="5410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pe de Ve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617220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ribe la nov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Don Quijote de La Mancha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6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38680"/>
            <a:ext cx="56390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ribe el drama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ente Oveju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6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61960"/>
            <a:ext cx="9144000" cy="599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Renac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Renacimiento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e inic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on la unificación de España por l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Reyes Católic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barca los reinad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Carlos 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Felipe I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4343400"/>
            <a:ext cx="159732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Imagen:King PhilipII of Spai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434340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Os Reis Católicos, Fernando de Aragon e Isabel de Castela (foto: revista 'Hola!' especial, Madrid, 1992)"/>
          <p:cNvPicPr/>
          <p:nvPr/>
        </p:nvPicPr>
        <p:blipFill>
          <a:blip r:embed="rId9"/>
          <a:stretch/>
        </p:blipFill>
        <p:spPr>
          <a:xfrm>
            <a:off x="7086600" y="2133720"/>
            <a:ext cx="1828800" cy="126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Renac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inado de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arlos 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reciben nuevas ideas y se imita el Renacimiento italia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inado de </a:t>
            </a: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Felipe II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Renacimiento español se cierra en sí mismo y se acentúan los aspectos religios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1828800"/>
            <a:ext cx="1663560" cy="214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Imagen:King PhilipII of Spai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4114800"/>
            <a:ext cx="188604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ue un </a:t>
            </a:r>
            <a:r>
              <a:rPr b="1" lang="es-ES" sz="4000" spc="-1" strike="noStrike">
                <a:solidFill>
                  <a:srgbClr val="ffcc00"/>
                </a:solidFill>
                <a:latin typeface="Tahoma"/>
              </a:rPr>
              <a:t>periodo de gran florecimiento político y económico en Españ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que alcanzó un gran renombre y prestigio internacion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urante esta época todo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o «nuevo» en Europa venía de Españ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era imitado con gusto y apl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53080" y="642960"/>
            <a:ext cx="25909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os Polít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ción de un Estado moder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nidad dinás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lítica expansionista de los RRCC (Reyes Católic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ntralización de po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paña mantiene la hegemonía europ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os Religios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forma Lute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ontrarreforma (Concilio de Tren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492 Anexión de Granada y expulsión de los judí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ciedad teocéntrica (la vida perfecta entre la naturlid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ciedad antropocéntrica (dominar e futur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Aspectos Cultur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fluencia del arte italiano (Dante, Petrarca, Bocac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mportancia de los mitos grecolati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uevo concepto de am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os Filosóf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epticismo = actitud critica ante la re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picureismo: goce moderado de la v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oicismo: exalta el dominio de las pasiones y elogia la serenidad espiri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latonismo: exalta la belleza de los seres naturales y de la naturaleza a los que considera un reflejo de la belleza divina / absol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19360" y="152280"/>
            <a:ext cx="57052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ícaros comiendo” de Muri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os Ideológ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humanismo (los estudi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surgir de la cultural greco-lat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ópico del Carpe Di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desarrollan en espec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literatur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</a:t>
            </a: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artes plástic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músi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arquitectur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centros de mayor importancia cultural son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s Universidad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Salama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Alcalá de Hena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Sevil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Ideología del Renac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a valoración de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mundo grecolatin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en el que se busca una nueva escala de valores para el individu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El hombre es el centro del univers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(antropocentrismo), capaz de dominar el mundo y crear su propio destin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antepone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la raz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al sentimiento y prevalece el equilibrio, la mesura y la armoní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Ideología del Renac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nuevo ide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l hombre es el cortesano, hábil como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poeta y guerrer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nuevo ideal de bellez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que describe el mundo no como es, sino 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omo debería se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la naturaleza, la mujer, el amor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21360" y="1981080"/>
            <a:ext cx="309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arcilaso de la Veg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01-1536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ortesano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y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soldad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 la época del Emperad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19840" y="1143000"/>
            <a:ext cx="41241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30477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allero en las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a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allero en las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let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Imagen:Garcilas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404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5562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arcilaso de la Veg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La poesía renacentis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</a:t>
            </a: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la métrica utilizad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se adoptan versos (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ndecasílab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, estrofas (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ir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y poemas (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one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) procedentes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de Ital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ra = tipo de estrofa de cinco versos de la métrica española e itali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Temas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 renacentist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el amo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concebido desde el punto de vista plató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a naturalez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como algo idílico (bucolism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itología pagana, de la que se reflejan historias de di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a belleza femenin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, siguiendo siempre un mismo ideal clásic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Tópicos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 renacentistas tomados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del mundo clás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cc00"/>
                </a:solidFill>
                <a:latin typeface="Tahoma"/>
              </a:rPr>
              <a:t>Carpe diem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= "atrapa el día" o "aprovecha el momento". Con él se aconseja el disfrute de la vida antes de la llegada de la vejez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cc00"/>
                </a:solidFill>
                <a:latin typeface="Tahoma"/>
              </a:rPr>
              <a:t>Locus amoenu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o descripción de una naturaleza perfecta e idíl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Lazarillo de Torme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(1554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énero literario: novela picares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relato es autobiográfic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narración sigue un orden cronológic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ironía y el diálogo son dos de los recursos más empleados para desarrollar el argumento y expresar la crítica en el lib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rotagonista es un pícar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523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3208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Pícaro como protagonis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pertenece a la clase social baja, casi un delincuent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s un vagabund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se mueve inducido por el hamb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busca la manera de mejorar de vi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carece de ide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7524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Lazarillo de Tor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utor anóni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rita en primera persona (y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orma autobiográfica: Narra la vida del protagonista desde su nacimiento hasta adul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rve a varios am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amos lo maltratan y apenas le dan de co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y ideología es moralizante y pesim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7524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e5ffff"/>
                </a:solidFill>
                <a:latin typeface="Tahoma"/>
              </a:rPr>
              <a:t>Lazarillo de</a:t>
            </a: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4400" spc="-1" strike="noStrike">
                <a:solidFill>
                  <a:srgbClr val="e5ffff"/>
                </a:solidFill>
                <a:latin typeface="Tahoma"/>
              </a:rPr>
              <a:t>Tormes</a:t>
            </a:r>
            <a:br>
              <a:rPr sz="4400"/>
            </a:b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Literatura del 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iteratura basada en la re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ferente a la literatura anteri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ibros de caballer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vela sentim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05740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34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95280" y="244440"/>
            <a:ext cx="6629400" cy="6296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5880" y="380880"/>
            <a:ext cx="2895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s meninas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5520" y="1981080"/>
            <a:ext cx="304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go de Velásq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-55440"/>
            <a:ext cx="9144000" cy="696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5702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Siglo de O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Renacimiento (Siglo XVI = 1500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Barroco (Siglo XVII = 1600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ech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1492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unificación de España con la caída de Gr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lón encuentra las Amér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blicación de la primera gramática española por Antonio de Nebr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1681 – La muerte de Calderón de la Bar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apogeo (punto más alto) con Miguel de Cervantes y Lope de Ve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Imagen:Antonio de Nebrija (A. Nogués) Madrid 01.jpg"/>
          <p:cNvPicPr/>
          <p:nvPr/>
        </p:nvPicPr>
        <p:blipFill>
          <a:blip r:embed="rId2"/>
          <a:stretch/>
        </p:blipFill>
        <p:spPr>
          <a:xfrm>
            <a:off x="7781760" y="0"/>
            <a:ext cx="136224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Imagen:Grammatica Nebrissensis.JPG"/>
          <p:cNvPicPr/>
          <p:nvPr/>
        </p:nvPicPr>
        <p:blipFill>
          <a:blip r:embed="rId3"/>
          <a:stretch/>
        </p:blipFill>
        <p:spPr>
          <a:xfrm>
            <a:off x="8207280" y="3200400"/>
            <a:ext cx="93672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4:15:57Z</dcterms:created>
  <dc:creator>lausd_user</dc:creator>
  <dc:description/>
  <dc:language>en-US</dc:language>
  <cp:lastModifiedBy>IRIBARNET</cp:lastModifiedBy>
  <dcterms:modified xsi:type="dcterms:W3CDTF">2008-11-20T05:56:06Z</dcterms:modified>
  <cp:revision>31</cp:revision>
  <dc:subject/>
  <dc:title>Siglo de Oro</dc:title>
</cp:coreProperties>
</file>